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4EB1-004C-4153-BE8A-4C6ABA405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have to code the implementation directly into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do code the implementation in the class, it is “inlin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BC8-018B-4FBC-BA82-7C486716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673-9085-46C0-9989-D4EB024E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E9C-0A51-40DB-A26C-B9F3AE73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17B-1400-47AE-ADF4-855C88F4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CB1-7411-4A21-B41F-FA0E7884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3A9-8FAE-437D-A480-14575FF7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C48-0B27-4C04-B04E-EA86A2AE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174-6FE8-4D05-8E39-7EA04C44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364-51EF-4069-A25F-1104AAA5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83C-228F-4BE0-834A-A5C3D3B9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DA7-35E2-408F-825B-430E5E50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B7F-5946-475B-929A-E9D040D4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0060-28E9-4736-8839-75F431609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4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Class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terface to clas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(int size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String(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De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ember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String(char str[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StringLength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String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Data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m_pS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_leng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Class Implem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/De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::String(int siz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pStr = new char[size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length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::~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[] m_pS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Class Implem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Useful Strin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tring::SetString(char str[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cpy(m_pStr, 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length = strlen(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tring::GetStringLength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m_leng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tring::Print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%s\n", m_p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d Co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yName; // Declare a String “objec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ructString(myName, 50); // Create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String(myName, “Tony”); // Set a value in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length = GetStringLength(myName); // Get the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Length: %d\n”, leng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String(myName); // Output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tructString(myName); // Destroy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our String clas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yName(50); // Declare &amp; create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Name.SetString("Tony"); // Set a value in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length = myName.GetStringLength(); // Get the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Length: %d\n", length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Name.PrintString(); // Output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 Problems Solv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thing stops the user from modifying the struct values directly! The data is no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ith classes, you can protect data by using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spec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 Problems Solv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ser may forget to call ConstructString() and/or Destruct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ith classes, Constructor and Destructor are automatically called when objects are created and destroyed (respective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 Problems Solv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noying having to pass the String struct to every singl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ith classes, you call memebrs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object instance using the dot operator, so there’s no need to pass in the object to the function (it is passed implici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is something that h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an be manipulated throu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A coffee cup is an object that has property “fullness” and method “drink” that affects the fu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, an object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pr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re similar to structs except for two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hods) along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ta 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oper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rol access to data members and member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F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Alpha() { return alpha; } // Member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beta; // Data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etAlpha(int val) { alpha = va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lph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myFoo; // Create an instance of F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Foo.beta = 4; // No problem! beta has public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myFoo.GetAlpha(); // Once again, on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Foo.alpha = 5; // ILLEGAL!!! WON’T 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Foo.SetAlpha(5); // ALSO ILLEGAL!!! WON’T 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types of access specifiers, and they can appear anywhere in the class, in any order, and as often as you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yone ca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ly class methods ca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class methods and children can access (more on this later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/De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ss can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struc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be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or is called only once when object is instant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or is called only once when object is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constructor and destructor created when none ar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ion/Destruction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_count; // Private data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onstructors to initialize data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() { m_count = 0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(int startCount) { m_count = startCount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mpty destructor (no need to define real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Counter()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ublic member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Tick() { ++m_count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Count() { return m_count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counter1; // Internal count is a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1.Tick(); // Count is at 1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counter1: %d\n”, counter1.GetCount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counter2(5); // Internal count is a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2.Tick(); // Count is at 6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counter2: %d\n”, counter2.GetCount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* counter3 = new Coun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* counter4 = new Counter(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counter3; // Destructor called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counter4; // Destructor called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Destructors for counter1 and counter2 called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AL String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, we wrote a String “Object” using structs and functions (a la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oted many problems inherent in a non-object-oriented language lik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rewrite the String object using cla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urce code provided: StringTest2.z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6:23:20Z</dcterms:created>
  <dc:creator>Antonio Maiorano</dc:creator>
  <dc:description/>
  <dc:language>en-US</dc:language>
  <cp:lastModifiedBy>Tony</cp:lastModifiedBy>
  <dcterms:modified xsi:type="dcterms:W3CDTF">2003-08-23T18:09:20Z</dcterms:modified>
  <cp:revision>28</cp:revision>
  <dc:subject/>
  <dc:title>C/C++ Tutorial</dc:title>
</cp:coreProperties>
</file>